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08186A-556C-4FF0-B21C-3AD95618C8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E73D20-7334-47A6-86E4-1B771A578B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920D68-7D40-49A0-8152-8C32204036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9146-DBD2-4A29-B8B6-4D61E6F1B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506B-911A-4F24-A6CF-947FACF8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3B3FE-FEC0-416A-B2FD-9F154697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719CF-97A4-4C7D-B7B7-ED48CDD2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581B0-F0DC-4890-9B9F-912C34C3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10FF09-D573-461F-9CC1-D112DDA6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419CD-2A67-467E-8015-0266753E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A35320-39F2-4C87-8B14-DE980E73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AE7DC-E096-4A90-8855-660E8405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F2666-2FFE-4627-B764-BE6C75D99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DB03A-1FB4-49E7-98A8-92B225D03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A92AF-6C4A-493A-9626-7356E277D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7332-7867-45BD-A615-73DA502FE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228290-FACA-4BBD-BF16-8DB8BD6E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A6E41-FFB7-41F0-813A-BA620DB6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D840BE-EE41-4472-8CAC-F681437F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830219-6502-46A7-A665-03342BAA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2012B9-8432-46EF-8203-05173FC3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71914-225A-45F5-B436-10A40CF6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43F2D-6105-470F-BE5E-E34BCDAE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35D454-3BCB-4039-B348-5E67517D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6BAB0-61E6-4169-8FF3-58B05D2F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5D86BC-DD33-4DCB-914D-D5912A9A9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D4A3-94AB-4D31-A899-CC1A5DF7A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B7E190-9C78-4012-A722-4BCC4162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A0BA8-046B-43A7-A114-D0FC09D4D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31DBE-BDD4-4426-9C97-56A1786F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C59EE-E073-4925-B9BE-0854D047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4F4C0-5283-4EE8-B835-9B0D4C7B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9354C-29B0-4F65-B0B1-E980AF08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E928E-F2DA-4C34-AB80-3AFCA7C8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16C1A-9701-49AE-9A40-E8EE6FB2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788B2-A132-4F68-9A84-37290C98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3FA32-BD43-49FB-B414-DDDB1E62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1B3E-0BE9-44E8-BA1B-F7735ECC4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80D98-9ABB-457B-BAB1-2DDE00BE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883C7-3DB4-4B06-BD1A-FD086832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3DFB0-D542-4F6F-B4A8-0348736F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77FF5-2C6B-4F1B-B67A-151418133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619565-A3B9-4427-8B09-1EABD0EA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06388E-CEEB-48A9-B6AC-4D8075C6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39A945-EC08-4F32-AC10-F45F1185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1AB23-805D-4CBD-A5D9-DC55351C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F083E4-3A81-4EF6-94DA-65083597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F6A2AF-2DB4-4E93-A8FC-E75A7C05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D0B3-ADF5-4B21-8C8F-0FA684E4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895AAD-3D9E-4463-872B-E25E1B4D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3DD03-00B3-472A-A28C-A29EFCF2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DDF514-E282-44B4-B528-8FEA7A7A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48C252-C153-41A4-81E9-AF26C4C8A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39AF44-B9A6-4026-8887-5F6C66893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9FFA-6B14-4E46-95A3-4FB7D7DD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EAEA-3AD5-4E94-9CB7-40C9C2FA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05DF-F770-4FE7-8465-5D1EB118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740E-1463-4EF0-95E7-02E5018B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589A-F6EF-4435-9E8A-BFE6079C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5613-1842-41EC-9909-962C0AF3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BFED-BFBE-4DE8-8D05-1D1DB0B0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ADDF-377A-4A9B-BB45-7E093C2B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1C81-D1FE-448E-9F25-3DB70433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264E-C536-4A2D-9403-B4BD66EEB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7663-E40B-4930-817F-66B3693D9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6111F-AC63-48A9-BDC6-5AC8FE36B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57C5F-6686-4D90-BCDC-D024ABA9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DB710-2949-48D0-A67B-D1B9A38F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B1967-4F82-4198-B5B5-25A78964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634E3-D3E0-4E8F-8249-BF05B9C6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F104-CF4C-4806-854D-9DCC1024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F1F14-F253-4127-942E-6C0F05B5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524DA-2144-4A05-B87B-57773E8E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5D143-499A-4D2B-B5B9-24C8DD6D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3CAFF-9268-48E1-86D4-3F69259B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BC750-DE10-42C1-A635-44467C13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C27F5-5DBA-4635-AB63-B0F1C4D61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621A8-DA76-4AF6-B7D5-1CC60FCF4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3C1A2-3983-4763-930E-83A321B43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E8092-01D2-44C8-A6D9-10CA8E8E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F61BB-A7E3-468F-B7E6-EBF5BE34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4F92-E0F3-41CE-930A-42DE4FA5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A1CAB-422A-422F-81D3-C6345BF3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EC9AC-F7B0-4EBE-8074-36195D5D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BA42F-7CC6-4110-A829-B1059775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32B19-CDEC-445E-A5F4-99BF4F37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49603-3AF1-4CF9-BD92-7C6488EC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43591-B62D-4F01-8291-9215BC7A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B3C4A-333E-408F-9F44-AE38257F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641A9-A695-446B-AAB7-5A3DB3B91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5CF21-E362-43C1-A9D3-D2E66F7C2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5A97F-B8F0-490E-B317-EFA85C801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8FBA-C29A-4F01-A00B-2746AE8F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08A47-94FB-477E-A53D-D1646D5D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908A6-C742-4B77-8176-7D610764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68905-94E1-44F0-86DF-98B42726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13EA5-589B-486C-8692-C25F5CAB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593C1-8702-4D43-AA87-645E9F43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FA78C-7DF8-4CFC-9AE8-5AF79CC7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AB826-A3CF-4ABB-9041-00F46555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E6AF1-4B8C-41E0-A4A2-C8A45FD1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90CFE-D0A3-412A-AF15-17252016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65429-E988-410F-83EC-B719785B4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DD9D-E643-47B4-803F-62F001C2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D12E9-592D-4E94-B564-4D0A17229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18434-E016-4842-8D9A-83E34B4F5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DF454-C3F5-4175-B348-339856A6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5CBB2-09A5-4AD3-AECD-C4F87700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289C2-2361-43F1-8FA6-B1E28937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0660E-1186-45FE-8464-AA3E2936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F688B-0EC6-4808-A6C4-427E1463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DF4E2-C53B-4BA4-A691-29B8CC2E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12227-8875-4AA6-91AC-4C618730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202B0-D9E1-4523-9072-6E59EF3D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7007-5880-406A-B30A-6EAE4A2C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ED425-080C-4151-BD4A-C7B4A958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DCE06-0D91-444F-AAC6-CD445C9D6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14076-0342-4222-A5A0-788283946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9BD0D-1AC3-4E95-B463-CA4B0D6AB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916F3-69ED-4A10-B865-AA5E473C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E6728-2E50-47D4-AAA2-3F50C768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8ADAC-D501-4E3A-A9C5-4654E9F1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8F1AA-AF89-4E10-B7B9-0422498F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796BF-6E34-4571-9C93-8C268A0E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02B8F-E85F-4AF5-990C-4E03C3A8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F516-5C9E-45EE-889A-231160B6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02B0A-D485-4906-8224-F6922403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686A1-2876-42A1-AD1E-35001E74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C7EE8-CEF5-43A2-8ECA-E702404C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F3AA4-4DEC-4112-AB89-00EDC572D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D9E45-8FB6-4244-A1E6-00F4758B9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1116F-12B0-4B62-94CC-18D9E658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7AAF6-87E6-42B7-9F7A-A99F7321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83204-1BBA-491F-AB50-D1F7AC09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A87C1-ADE3-47C0-96FE-361A39F1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6AB17-580A-44BA-B99A-E3BADCB9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613B-2B80-43C1-B298-1D3D6E76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32D4D-45F8-43B0-B6BE-09C8B9A8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28509-54BC-48F7-A841-B4901CE6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59227-6EF6-43EF-B9C9-4B5B5588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E58BE-6EEA-487A-B812-3FE5AA4C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77FB7-D3D0-4694-B454-C692F07D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A168B-152F-43BB-B76C-8D5C1460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F3EDB-6F8D-423A-A744-D084857A8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240E4-4F9A-4E44-BBCF-347CAD75D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B6A02A-328C-4023-BFBA-6558053F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4827A-EC0B-4879-8CD9-404B1F43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C2641D-86FE-4D0B-843D-7C8EC969E7F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328A13-5BA8-497A-A538-F0606DED81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2E2B71A3-5E10-4B54-BC4C-508C0DE9BF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46428E-0218-4FD8-8D31-FFE1C2062A1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A04721-FB2E-4EEF-9CD0-618C4AA905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D1B4D2-12DE-4B59-9CF3-DB4F8CC510A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663BBE-C23D-456C-BA62-0FCEC53306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741FED-11F1-4806-B6DC-DCF5A81F6A3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1A3D55-794C-4184-A181-B2C47E26A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DC967D-1F11-4074-B9FB-5CBD92042D8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C8A77B-3120-4252-94F1-2469391B63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FF1F1E-D672-45F7-91AF-021A4072E21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79EE99-B14F-45BD-8371-3D6666837C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3FDEC9-D539-4199-AA73-F02244531C6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33934D-DD3F-4AF7-9CB1-938447145D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BACC55-C116-4770-8AF4-435AF8A6442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38D06D-881D-4A78-8DEF-CE342356CF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CCCC5B-41CF-4453-A691-A4111F14B73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08F44A-BD36-4A0B-8687-744ADF6085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F9FA10-4FE1-4DC2-BFF6-ED3C3B0288C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A370B2-FFFF-498E-9BE1-0F4C2CBF9B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61AE45-5216-482D-B9D6-461A30DFC83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368537-0F78-4E29-885B-3DFFC50BED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2C5D62-1DC9-4A23-A8B5-CA9FFE5EE6C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A405F4-CB4E-46B5-9EBC-B132266569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400"/>
            </a:br>
            <a:r>
              <a:rPr b="1" lang="cs-CZ" sz="5400" spc="-1" strike="noStrike">
                <a:solidFill>
                  <a:srgbClr val="f3912c"/>
                </a:solidFill>
                <a:latin typeface="Helvetica CE"/>
              </a:rPr>
              <a:t>Rozpočet projektu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3912c"/>
                </a:solidFill>
                <a:latin typeface="Helvetica CE"/>
              </a:rPr>
              <a:t>Mgr. Tomáš Drážný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AC0993-D716-4AE7-B89C-66583147FD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FD10D1-B771-45C9-AA83-4093AB5883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soby, které mají v rámci projektu uzavřen pracovně právní vztah (pracovnísmlouva, DPP, DPČ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hrubá mzda v místě realizace, oboru a čase obvykl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oporučená výše mezd/platů - Metodický dopis č. 4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http://www.msmt.cz/strukturalni-fondy/vyse-mezd-platu-v-projektech-op-vk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Finanční manažer  0,2 * 20.000 = 4.000 Kč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E7C134-B766-430A-8B4D-DBD57EC388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9" descr=""/>
          <p:cNvPicPr/>
          <p:nvPr/>
        </p:nvPicPr>
        <p:blipFill>
          <a:blip r:embed="rId1"/>
          <a:stretch/>
        </p:blipFill>
        <p:spPr>
          <a:xfrm>
            <a:off x="814320" y="1833480"/>
            <a:ext cx="7232760" cy="3819600"/>
          </a:xfrm>
          <a:prstGeom prst="rect">
            <a:avLst/>
          </a:prstGeom>
          <a:ln w="0">
            <a:noFill/>
          </a:ln>
        </p:spPr>
      </p:pic>
      <p:sp>
        <p:nvSpPr>
          <p:cNvPr id="610" name="Šipka doleva 6"/>
          <p:cNvSpPr/>
          <p:nvPr/>
        </p:nvSpPr>
        <p:spPr>
          <a:xfrm>
            <a:off x="5753160" y="429732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Šipka doprava 7"/>
          <p:cNvSpPr/>
          <p:nvPr/>
        </p:nvSpPr>
        <p:spPr>
          <a:xfrm rot="16200000">
            <a:off x="2961360" y="4736160"/>
            <a:ext cx="752400" cy="2206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329840" y="1260360"/>
            <a:ext cx="6458040" cy="4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D06D8C-AF35-4414-A810-4BAE4B7FB2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9" descr=""/>
          <p:cNvPicPr/>
          <p:nvPr/>
        </p:nvPicPr>
        <p:blipFill>
          <a:blip r:embed="rId1"/>
          <a:stretch/>
        </p:blipFill>
        <p:spPr>
          <a:xfrm>
            <a:off x="1206360" y="1557360"/>
            <a:ext cx="6581880" cy="2444760"/>
          </a:xfrm>
          <a:prstGeom prst="rect">
            <a:avLst/>
          </a:prstGeom>
          <a:ln w="0">
            <a:noFill/>
          </a:ln>
        </p:spPr>
      </p:pic>
      <p:pic>
        <p:nvPicPr>
          <p:cNvPr id="616" name="Obrázek 7" descr="komentar.JPG"/>
          <p:cNvPicPr/>
          <p:nvPr/>
        </p:nvPicPr>
        <p:blipFill>
          <a:blip r:embed="rId2"/>
          <a:stretch/>
        </p:blipFill>
        <p:spPr>
          <a:xfrm>
            <a:off x="1501920" y="4002120"/>
            <a:ext cx="5956200" cy="1111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17" name="Obdélník 10"/>
          <p:cNvSpPr/>
          <p:nvPr/>
        </p:nvSpPr>
        <p:spPr>
          <a:xfrm flipV="1" rot="10800000">
            <a:off x="1645920" y="4196160"/>
            <a:ext cx="560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odinová sazba lektora je lehce nadprůměrná, jedná se o výjimečného odborníka. Jeho zapojení do projektu je klíčové. Viz blíže příloha č. 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Šipka doleva 11"/>
          <p:cNvSpPr/>
          <p:nvPr/>
        </p:nvSpPr>
        <p:spPr>
          <a:xfrm>
            <a:off x="5634000" y="304812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Šipka doleva 12"/>
          <p:cNvSpPr/>
          <p:nvPr/>
        </p:nvSpPr>
        <p:spPr>
          <a:xfrm rot="8874600">
            <a:off x="1499400" y="3244680"/>
            <a:ext cx="800280" cy="222480"/>
          </a:xfrm>
          <a:prstGeom prst="leftArrow">
            <a:avLst>
              <a:gd name="adj1" fmla="val 50000"/>
              <a:gd name="adj2" fmla="val 49959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bdélník 13"/>
          <p:cNvSpPr/>
          <p:nvPr/>
        </p:nvSpPr>
        <p:spPr>
          <a:xfrm>
            <a:off x="1340640" y="5113440"/>
            <a:ext cx="399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f79646"/>
                </a:solidFill>
                <a:latin typeface="Helvetica CE"/>
                <a:ea typeface="Helvetica CE"/>
              </a:rPr>
              <a:t>Využívejte komentář k rozpoč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Obrázek 10" descr="Benefit-logo.JPG"/>
          <p:cNvPicPr/>
          <p:nvPr/>
        </p:nvPicPr>
        <p:blipFill>
          <a:blip r:embed="rId3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E1E8F8-C6B0-457C-A995-7BAD3713DF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hlavní manaže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finanční manaže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lekto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metodik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5" name="Podnadpis 1"/>
          <p:cNvSpPr/>
          <p:nvPr/>
        </p:nvSpPr>
        <p:spPr>
          <a:xfrm>
            <a:off x="4635360" y="2171880"/>
            <a:ext cx="33148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účetní organ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mzdová účet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persona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ostraha, úk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br>
              <a:rPr sz="3200"/>
            </a:b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Zahraniční pracovní cesty realizačního týmu:</a:t>
            </a:r>
            <a:br>
              <a:rPr sz="20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jen v řádně odůvodněných případech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římá vazba na klíčové aktivity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specifikace KDO, KAM a PROČ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35FBDA-EA45-454D-9ED2-696DB30F9E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4" descr=""/>
          <p:cNvPicPr/>
          <p:nvPr/>
        </p:nvPicPr>
        <p:blipFill>
          <a:blip r:embed="rId1"/>
          <a:stretch/>
        </p:blipFill>
        <p:spPr>
          <a:xfrm>
            <a:off x="1189080" y="2762280"/>
            <a:ext cx="6153120" cy="2689200"/>
          </a:xfrm>
          <a:prstGeom prst="rect">
            <a:avLst/>
          </a:prstGeom>
          <a:ln w="0">
            <a:noFill/>
          </a:ln>
        </p:spPr>
      </p:pic>
      <p:sp>
        <p:nvSpPr>
          <p:cNvPr id="629" name="Šipka doleva 8"/>
          <p:cNvSpPr/>
          <p:nvPr/>
        </p:nvSpPr>
        <p:spPr>
          <a:xfrm rot="19872600">
            <a:off x="6153120" y="468612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7F4826-DBA1-4368-B59F-DAA404989A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estovné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ízdenky, letenky, výdaje za použití  vozidl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 za dopravu zahraničního experta do ČR a zpě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Ubyto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ravné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Ostat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utné vedlejší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ahraniční expert v ČR, per diems 230 €/den (ubytování,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travné a cestovné v ČR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6514F0-B3E3-4E7D-BEE8-AC1ACEE50A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8" descr=""/>
          <p:cNvPicPr/>
          <p:nvPr/>
        </p:nvPicPr>
        <p:blipFill>
          <a:blip r:embed="rId1"/>
          <a:stretch/>
        </p:blipFill>
        <p:spPr>
          <a:xfrm>
            <a:off x="665280" y="2600280"/>
            <a:ext cx="8478720" cy="2081160"/>
          </a:xfrm>
          <a:prstGeom prst="rect">
            <a:avLst/>
          </a:prstGeom>
          <a:ln w="0">
            <a:noFill/>
          </a:ln>
        </p:spPr>
      </p:pic>
      <p:pic>
        <p:nvPicPr>
          <p:cNvPr id="637" name="Obrázek 1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51760" y="5948280"/>
            <a:ext cx="1754280" cy="408240"/>
          </a:xfrm>
          <a:prstGeom prst="rect">
            <a:avLst/>
          </a:prstGeom>
          <a:ln w="0">
            <a:noFill/>
          </a:ln>
        </p:spPr>
      </p:pic>
      <p:sp>
        <p:nvSpPr>
          <p:cNvPr id="638" name="Šipka doleva 7"/>
          <p:cNvSpPr/>
          <p:nvPr/>
        </p:nvSpPr>
        <p:spPr>
          <a:xfrm rot="10800000">
            <a:off x="130320" y="302400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Šipka doleva 8"/>
          <p:cNvSpPr/>
          <p:nvPr/>
        </p:nvSpPr>
        <p:spPr>
          <a:xfrm rot="10800000">
            <a:off x="130320" y="324612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Šipka doleva 9"/>
          <p:cNvSpPr/>
          <p:nvPr/>
        </p:nvSpPr>
        <p:spPr>
          <a:xfrm rot="10800000">
            <a:off x="130320" y="3643200"/>
            <a:ext cx="799920" cy="222480"/>
          </a:xfrm>
          <a:prstGeom prst="leftArrow">
            <a:avLst>
              <a:gd name="adj1" fmla="val 50000"/>
              <a:gd name="adj2" fmla="val 4993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Šipka doleva 10"/>
          <p:cNvSpPr/>
          <p:nvPr/>
        </p:nvSpPr>
        <p:spPr>
          <a:xfrm rot="10800000">
            <a:off x="130320" y="398124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Šipka doleva 11"/>
          <p:cNvSpPr/>
          <p:nvPr/>
        </p:nvSpPr>
        <p:spPr>
          <a:xfrm rot="10800000">
            <a:off x="130320" y="434628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A920DB-7B45-46F8-B155-5ACD0A13FC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794880" y="2171520"/>
            <a:ext cx="342108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zahraniční cestov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ubytování a strav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v zahraničí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cesta a per diems 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zahranič. experta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6" name="Podnadpis 1"/>
          <p:cNvSpPr/>
          <p:nvPr/>
        </p:nvSpPr>
        <p:spPr>
          <a:xfrm>
            <a:off x="4389480" y="2171880"/>
            <a:ext cx="463536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tuzemské cesto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realizačního týmu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ubytování a stra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realizačního týmu v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2159EB-EF7C-4BE6-8CDC-1D04D836D0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hmotný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majetek do 60 tis.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softwaru, licence, studijního program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louhodobý nehmotný majetek nad 60 tis. Kč 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robný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hmotný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majetek do 40 tis. Kč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výukového a spotřebního materiálu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204669-60DC-4283-9786-C2B4A83901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užitý drobný hmotný majete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ájem zařízení, operativní leasing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aňové odpis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Výdaje na opravy a údržbu -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en majetek pořízený ze způsobilých výdajů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31AC32-0E46-466D-BB38-2D0DAFAF4B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Finanční podpora na jeden IPO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inimální výše: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5.000.000,-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aximální výše: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30.000.000,- Kč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 návaznosti na typ podporovaných aktivi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3B6E93-0A75-42D8-BC79-E1080043D2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KŘÍŽOVÉ FINANCOVÁNÍ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limit 9 %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ouze příjemce, který daňově neodepisuje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Investiční část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hmotný majetek nad 40 tis. Kč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Neinvestiční část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bytek do 40 tis. Kč - židle, stoly, lavice pro cílovou skupin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bytek a vybavení pro realizační tým - max. 15 tis. Kč na 1 přepočtený úvazek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690041-3FFA-4E32-9A8C-9D4C06000A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1330200" y="2171520"/>
            <a:ext cx="35402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otebooky pro cílovou skupin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odborná literatura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9" name="Podnadpis 1"/>
          <p:cNvSpPr/>
          <p:nvPr/>
        </p:nvSpPr>
        <p:spPr>
          <a:xfrm>
            <a:off x="4870440" y="2171880"/>
            <a:ext cx="3816360" cy="39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papíry a psací potře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kancelářské potřeby pro administrac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4AAD54-223F-4280-AC06-797D25DCFD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ublikace/školící materiály/manuály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tisk skript, tvorba publikací, učebnic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Odborné služby/studie a výzkum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eklady textů, zpracování analýz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Výdaje na konference/kurz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ýdaje na zajištění konferencí a kurzů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ořádaných v rámci projektu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(pronájem prostor, techniky)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89D59A-7CCC-41F7-8860-7278D4A478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dpora účastníků (stravné/ubytování)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limit pro stravné 300 Kč/os/den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limit pro ubytování 1 500 Kč/os/noc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Jiné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935C84-9CE0-4DFD-AC92-CD422D9897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329840" y="2171520"/>
            <a:ext cx="333396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tvorba e‑learningového portál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onájem prostor pro seminář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9" name="Podnadpis 1"/>
          <p:cNvSpPr/>
          <p:nvPr/>
        </p:nvSpPr>
        <p:spPr>
          <a:xfrm>
            <a:off x="5002200" y="2171880"/>
            <a:ext cx="381636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áklady na daňové a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ávní poraden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áklady na realizaci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výběrových řízení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ezbytných pro projekt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(inzerce, poradenst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6 - Stavební úprav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C7034B-907F-4E08-98E7-46656C36A4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robné stavební úpravy - do 4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 v rámci křížového financová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 – odpis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úprava pracovních míst nebo úprava přístupu pro osoby se zdravotním postižením, a úprava výukových, tréninkových nebo pracovních prostor, používaných na realizaci aktivit s 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ílovou skupino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7 - Přímá podpora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0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FE549D-EF90-4C67-BA1B-7B6F20BAA6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Mzdové příspěvky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oskytovány zaměstnavateli jako náhrada mzdy pracovníka účastnícího se dalšího vzdělávání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Cestovné, ubytování a stravné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lacené přímo zástupcům cílové skupiny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Doprovodné aktivity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asistentské služby žákům se speciálními potřebami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330200" y="1260000"/>
            <a:ext cx="68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8 - Náklady vyplývající přímo z Rozhodnut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D01E35-461B-4BD5-8B04-BD29BE2E04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329840" y="218556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Audit projektu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chválená finanční podpora projektu ≥ 3 mil. Kč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rcRect l="648" t="5400" r="1297" b="5400"/>
          <a:stretch/>
        </p:blipFill>
        <p:spPr>
          <a:xfrm>
            <a:off x="1487520" y="3040200"/>
            <a:ext cx="6715080" cy="73332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80" name="Šipka doleva 6"/>
          <p:cNvSpPr/>
          <p:nvPr/>
        </p:nvSpPr>
        <p:spPr>
          <a:xfrm rot="10800000">
            <a:off x="5370120" y="355104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odnadpis 1"/>
          <p:cNvSpPr/>
          <p:nvPr/>
        </p:nvSpPr>
        <p:spPr>
          <a:xfrm>
            <a:off x="1330200" y="3916440"/>
            <a:ext cx="3333960" cy="31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  <a:ea typeface="Helvetica CE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odnadpis 1"/>
          <p:cNvSpPr/>
          <p:nvPr/>
        </p:nvSpPr>
        <p:spPr>
          <a:xfrm>
            <a:off x="4870440" y="4000680"/>
            <a:ext cx="381636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bankovní poplat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ublicita projektu včetně úvodní a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závěrečné k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Obrázek 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203960" y="600696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D1357A-50C3-4140-982D-35D1F55406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díl nepřímých nákladů se stanoví jako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cento dané výzvou z přímých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působilých výdajů celkem bez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řížového financování položka rozpočtu 9.1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přímé náklady není třeba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kazovat účetními doklad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71360" y="1130400"/>
            <a:ext cx="788652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1071720" y="2341440"/>
          <a:ext cx="7535880" cy="2748240"/>
        </p:xfrm>
        <a:graphic>
          <a:graphicData uri="http://schemas.openxmlformats.org/drawingml/2006/table">
            <a:tbl>
              <a:tblPr/>
              <a:tblGrid>
                <a:gridCol w="4944960"/>
                <a:gridCol w="2590920"/>
              </a:tblGrid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Objem přímých nákladů (bez nákladů spadajících do křížového financování) – položka 9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% nepřímých nákladů </a:t>
                      </a: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≤ 6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6 mil. Kč ≤ 10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10 mil. Kč ≤ 15 mil. Kč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15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A82937-7CDB-4810-9C27-A755711A13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křížové financování do maximální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ýše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9%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celkových způsobilých výdajů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rámci výzvy budou uplatněna pravidla pro nepřímé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 - pří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536FCD-B44D-4A84-9F84-807B4DAC65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isk a kopírování, nájem kanceláře a nákup kancelářského materiálu pro administraci projekt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edení účetnictví, personalistika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vody, paliv a energi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elefonní poplatky, poštovné, balné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ráva počítačových sítí a internetových stránek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řízení zásob či materiálu pro občerstvení, …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Obrázek 14" descr="celkove.JPG"/>
          <p:cNvPicPr/>
          <p:nvPr/>
        </p:nvPicPr>
        <p:blipFill>
          <a:blip r:embed="rId1"/>
          <a:srcRect l="575" t="0" r="0" b="69877"/>
          <a:stretch/>
        </p:blipFill>
        <p:spPr>
          <a:xfrm>
            <a:off x="1353960" y="2403360"/>
            <a:ext cx="6107400" cy="866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071360" y="1072800"/>
            <a:ext cx="7886520" cy="10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694" name="Obrázek 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203960" y="6006960"/>
            <a:ext cx="1754280" cy="408240"/>
          </a:xfrm>
          <a:prstGeom prst="rect">
            <a:avLst/>
          </a:prstGeom>
          <a:ln w="0">
            <a:noFill/>
          </a:ln>
        </p:spPr>
      </p:pic>
      <p:pic>
        <p:nvPicPr>
          <p:cNvPr id="695" name="Obrázek 15" descr="nn_benefit.JPG"/>
          <p:cNvPicPr/>
          <p:nvPr/>
        </p:nvPicPr>
        <p:blipFill>
          <a:blip r:embed="rId3"/>
          <a:stretch/>
        </p:blipFill>
        <p:spPr>
          <a:xfrm>
            <a:off x="1871640" y="3814920"/>
            <a:ext cx="4767120" cy="1590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96" name="TextovéPole 19"/>
          <p:cNvSpPr/>
          <p:nvPr/>
        </p:nvSpPr>
        <p:spPr>
          <a:xfrm>
            <a:off x="3794040" y="4187880"/>
            <a:ext cx="128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4 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ovéPole 20"/>
          <p:cNvSpPr/>
          <p:nvPr/>
        </p:nvSpPr>
        <p:spPr>
          <a:xfrm>
            <a:off x="4535640" y="4187880"/>
            <a:ext cx="142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977 566,8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Šipka doprava 16"/>
          <p:cNvSpPr/>
          <p:nvPr/>
        </p:nvSpPr>
        <p:spPr>
          <a:xfrm>
            <a:off x="4775040" y="2560680"/>
            <a:ext cx="978120" cy="22212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Šipka doprava 17"/>
          <p:cNvSpPr/>
          <p:nvPr/>
        </p:nvSpPr>
        <p:spPr>
          <a:xfrm>
            <a:off x="2327400" y="5183280"/>
            <a:ext cx="977760" cy="22212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ovéPole 24"/>
          <p:cNvSpPr/>
          <p:nvPr/>
        </p:nvSpPr>
        <p:spPr>
          <a:xfrm>
            <a:off x="5513400" y="4800600"/>
            <a:ext cx="128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4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aň z přidané hodnot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F92F31-D98A-4D87-8A09-29E889BD03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79646"/>
                </a:solidFill>
                <a:latin typeface="Helvetica CE"/>
              </a:rPr>
              <a:t>Plátce DPH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PH je způsobilým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m, pokud je příjemce osvobozen od daně ve vazbě k aktivitám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PH není způsobilým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m, pokud má příjemce nárok na odpočet na vstupu i ve vazbě k aktivitám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79646"/>
                </a:solidFill>
                <a:latin typeface="Helvetica CE"/>
              </a:rPr>
              <a:t>Neplátce DPH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 osoby neregistrované k DPH je daň z přidané hodnoty způsobilým výdajem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způsobilé výdaj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86550E-4F8D-482B-AEEB-1DD9014B13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Výdaje, které nejsou vynaloženy v souladu s cíli projektu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Výdaje, které nelze hradit z veřejných prostředků OPVK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Příklady nezpůsobilých výdajů: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kurzové ztráty, stipendia, splátky finančního leasingu, vedení běžného provozního účtu, peněžitá pomoc v mateřství, mzdy zaměstnanců nepodílejících se na realizaci projektu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řehled financová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8BDC49-81DB-4839-BD29-D4C6756A6D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Obrázek 4" descr="prehled financovani.JPG"/>
          <p:cNvPicPr/>
          <p:nvPr/>
        </p:nvPicPr>
        <p:blipFill>
          <a:blip r:embed="rId1"/>
          <a:stretch/>
        </p:blipFill>
        <p:spPr>
          <a:xfrm>
            <a:off x="1330200" y="1797120"/>
            <a:ext cx="5222880" cy="3722760"/>
          </a:xfrm>
          <a:prstGeom prst="rect">
            <a:avLst/>
          </a:prstGeom>
          <a:ln w="0">
            <a:noFill/>
          </a:ln>
        </p:spPr>
      </p:pic>
      <p:sp>
        <p:nvSpPr>
          <p:cNvPr id="710" name="Šipka doprava 6"/>
          <p:cNvSpPr/>
          <p:nvPr/>
        </p:nvSpPr>
        <p:spPr>
          <a:xfrm rot="10800000">
            <a:off x="5792760" y="2898720"/>
            <a:ext cx="977760" cy="22248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Obrázek 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7228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věrem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FC28B1-F507-40C5-AED0-65C5869E3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i tvorbě rozpočtu vycházejte z pokynů v platné Příručce pro žadatele, verze č. 6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ěnujte pozornost aktuálním informacímk výzvám na  </a:t>
            </a:r>
            <a:r>
              <a:rPr b="0" lang="cs-CZ" sz="1600" spc="-1" strike="noStrike" u="sng">
                <a:solidFill>
                  <a:srgbClr val="558ed5"/>
                </a:solidFill>
                <a:uFillTx/>
                <a:latin typeface="Helvetica CE"/>
              </a:rPr>
              <a:t>http://www.msmt.cz/strukturalni-fondy/pro-zadatele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ěnujte rozpočtu dostatek čas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snažte se být konkrétní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yužívejte komentář k rozpočtu či samostatné příloh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 případě nejasností Vám rádi poradíme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121B47-D05D-4246-82F0-D545F7309B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bdélník 5"/>
          <p:cNvSpPr/>
          <p:nvPr/>
        </p:nvSpPr>
        <p:spPr>
          <a:xfrm>
            <a:off x="1116000" y="2136600"/>
            <a:ext cx="70311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Arial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gr. Tomáš Dráž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nanční manažer - Odbor CERA OP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1800" spc="-1" strike="noStrike" u="sng">
                <a:solidFill>
                  <a:srgbClr val="558ed5"/>
                </a:solidFill>
                <a:uFillTx/>
                <a:latin typeface="Helvetica CE"/>
                <a:ea typeface="Helvetica CE"/>
              </a:rPr>
              <a:t>tomas.drazny@msmt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D1465D-CD94-4A87-9730-1D21BC5176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Zástupný symbol pro obsah 5" descr="benefit.JPG"/>
          <p:cNvPicPr/>
          <p:nvPr/>
        </p:nvPicPr>
        <p:blipFill>
          <a:blip r:embed="rId1"/>
          <a:srcRect l="0" t="0" r="21781" b="49555"/>
          <a:stretch/>
        </p:blipFill>
        <p:spPr>
          <a:xfrm>
            <a:off x="1330200" y="2052720"/>
            <a:ext cx="3156120" cy="3105000"/>
          </a:xfrm>
          <a:prstGeom prst="rect">
            <a:avLst/>
          </a:prstGeom>
          <a:ln w="9360">
            <a:solidFill>
              <a:srgbClr val="f79646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74" name="Obrázek 6" descr="benefit.JPG"/>
          <p:cNvPicPr/>
          <p:nvPr/>
        </p:nvPicPr>
        <p:blipFill>
          <a:blip r:embed="rId2"/>
          <a:srcRect l="0" t="50395" r="23062" b="0"/>
          <a:stretch/>
        </p:blipFill>
        <p:spPr>
          <a:xfrm>
            <a:off x="4270320" y="2451240"/>
            <a:ext cx="3143160" cy="3090600"/>
          </a:xfrm>
          <a:prstGeom prst="rect">
            <a:avLst/>
          </a:prstGeom>
          <a:ln w="9360">
            <a:solidFill>
              <a:srgbClr val="e46c0a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75" name="Šipka doleva 7"/>
          <p:cNvSpPr/>
          <p:nvPr/>
        </p:nvSpPr>
        <p:spPr>
          <a:xfrm rot="10800000">
            <a:off x="604440" y="489420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Šipka doleva 8"/>
          <p:cNvSpPr/>
          <p:nvPr/>
        </p:nvSpPr>
        <p:spPr>
          <a:xfrm rot="10800000">
            <a:off x="3906720" y="283536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Šipka doleva 9"/>
          <p:cNvSpPr/>
          <p:nvPr/>
        </p:nvSpPr>
        <p:spPr>
          <a:xfrm rot="10800000">
            <a:off x="3906720" y="336240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Šipka doleva 10"/>
          <p:cNvSpPr/>
          <p:nvPr/>
        </p:nvSpPr>
        <p:spPr>
          <a:xfrm rot="10800000">
            <a:off x="3906720" y="309888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Obrázek 10" descr="Benefit-logo.JPG"/>
          <p:cNvPicPr/>
          <p:nvPr/>
        </p:nvPicPr>
        <p:blipFill>
          <a:blip r:embed="rId3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líčové aktivity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rovázanost jednotlivých položek rozpočtu s aktivitami projektu</a:t>
            </a: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115552-0CCC-4350-B381-71FD13F90D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7" descr=""/>
          <p:cNvPicPr/>
          <p:nvPr/>
        </p:nvPicPr>
        <p:blipFill>
          <a:blip r:embed="rId1"/>
          <a:stretch/>
        </p:blipFill>
        <p:spPr>
          <a:xfrm>
            <a:off x="957240" y="2171880"/>
            <a:ext cx="6311880" cy="3314520"/>
          </a:xfrm>
          <a:prstGeom prst="rect">
            <a:avLst/>
          </a:prstGeom>
          <a:ln w="0">
            <a:noFill/>
          </a:ln>
        </p:spPr>
      </p:pic>
      <p:sp>
        <p:nvSpPr>
          <p:cNvPr id="583" name="Obdélník 9"/>
          <p:cNvSpPr/>
          <p:nvPr/>
        </p:nvSpPr>
        <p:spPr>
          <a:xfrm>
            <a:off x="6399360" y="4070520"/>
            <a:ext cx="2400120" cy="113652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aké typy výdajů se k  aktivitě vztahují, popis výdajů pro danou aktiv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Šipka doleva 10"/>
          <p:cNvSpPr/>
          <p:nvPr/>
        </p:nvSpPr>
        <p:spPr>
          <a:xfrm>
            <a:off x="5673600" y="478152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ealizační tým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• manažerské a administrativní pozice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• odborné pozice 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7B7E73-9234-4688-9C9D-1F1D185F1C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1330200" y="2171880"/>
            <a:ext cx="6689880" cy="3314520"/>
          </a:xfrm>
          <a:prstGeom prst="rect">
            <a:avLst/>
          </a:prstGeom>
          <a:ln w="0">
            <a:noFill/>
          </a:ln>
        </p:spPr>
      </p:pic>
      <p:sp>
        <p:nvSpPr>
          <p:cNvPr id="589" name="Obdélník 7"/>
          <p:cNvSpPr/>
          <p:nvPr/>
        </p:nvSpPr>
        <p:spPr>
          <a:xfrm>
            <a:off x="5324400" y="3909960"/>
            <a:ext cx="2178000" cy="62244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záznam pro částečný úvazek  na 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Šipka doleva 8"/>
          <p:cNvSpPr/>
          <p:nvPr/>
        </p:nvSpPr>
        <p:spPr>
          <a:xfrm>
            <a:off x="4576680" y="426888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29840" y="1116000"/>
            <a:ext cx="645804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ealizační tým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informace ze záložky Realizační tým se automaticky nepřenášejí do záložky 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827530-1099-48FE-BCA5-74B7C2ABC0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1330200" y="2251080"/>
            <a:ext cx="6296040" cy="3094200"/>
          </a:xfrm>
          <a:prstGeom prst="rect">
            <a:avLst/>
          </a:prstGeom>
          <a:ln w="0">
            <a:noFill/>
          </a:ln>
        </p:spPr>
      </p:pic>
      <p:sp>
        <p:nvSpPr>
          <p:cNvPr id="595" name="Šipka doleva 7"/>
          <p:cNvSpPr/>
          <p:nvPr/>
        </p:nvSpPr>
        <p:spPr>
          <a:xfrm rot="20914200">
            <a:off x="4230360" y="387684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bdélník 8"/>
          <p:cNvSpPr/>
          <p:nvPr/>
        </p:nvSpPr>
        <p:spPr>
          <a:xfrm>
            <a:off x="4973760" y="3700440"/>
            <a:ext cx="1371600" cy="50976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áznam DPČ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hod.*saz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kladní pravidl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146104-E212-4B8F-B549-ED1DD96A50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603000" y="2171520"/>
            <a:ext cx="795492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přiměře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ceny v místě, oboru a čase obvykl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hospodár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minimalizace výdajů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účel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přímá vazba na projek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efektivnost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– maximalizace poměru mezi výstupy  a vstupy projekt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apitoly rozpočtu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41C9D7-620A-4B61-95D4-321AA15BA8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1329840" y="2171520"/>
            <a:ext cx="6458040" cy="34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3 - Zařízení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25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5 - Nákup služeb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49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6 - Stavební úprav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7 - Přímá podpora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20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8 - Náklady vyplývající přímo z rozhodnut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9 - Přímé způsobilé výdaje celke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10 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přímé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1-11T07:31:58Z</dcterms:modified>
  <cp:revision>45</cp:revision>
  <dc:subject/>
  <dc:title>Titulní strana – Titulek</dc:title>
</cp:coreProperties>
</file>